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12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43.jpeg" ContentType="image/jpeg"/>
  <Override PartName="/ppt/media/image44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876E-2DA2-4563-BA21-1C99F9CBB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5CE0-1B9F-4306-8A2E-76A32DD28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016F-6655-4BCC-A423-C9AEA7FB8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792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656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928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792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656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4D17-17FA-4397-AA65-F299C9093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49280" y="1168560"/>
            <a:ext cx="827712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2C4B-C13D-48E5-93DC-70C2B9CA5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792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56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928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792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56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06C0-39ED-4B1B-A6AC-649831208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B2AD-8B97-44B1-99D8-40653FF0F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36DF-89A1-4F0A-BDDE-465DFC857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9280" y="1168560"/>
            <a:ext cx="827712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8FEE-92E7-4635-AC95-69F550860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A37D-A928-4F1B-8E21-23A5E863D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1396-350E-4B8C-B4C0-563517338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D60E-C9F8-4FF6-90E0-F1587943F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18400" y="333360"/>
            <a:ext cx="1809720" cy="608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61520" y="6597720"/>
            <a:ext cx="5824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96080" y="6597720"/>
            <a:ext cx="6256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31000" y="6597720"/>
            <a:ext cx="62712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936760" y="6567120"/>
            <a:ext cx="8096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eite  </a:t>
            </a:r>
            <a:fld id="{6C035BF1-875E-4512-B49B-2092675C958A}" type="slidenum">
              <a:rPr b="0" lang="en-US" sz="10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77840">
              <a:spcBef>
                <a:spcPts val="1001"/>
              </a:spcBef>
              <a:buClr>
                <a:srgbClr val="7caa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1000" indent="-177840">
              <a:spcBef>
                <a:spcPts val="1001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9000">
              <a:spcBef>
                <a:spcPts val="1001"/>
              </a:spcBef>
              <a:buClr>
                <a:srgbClr val="479c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90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90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48920" y="65671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18400" y="333360"/>
            <a:ext cx="1809720" cy="60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561520" y="6597720"/>
            <a:ext cx="5824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96080" y="6597720"/>
            <a:ext cx="6256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31000" y="6597720"/>
            <a:ext cx="62712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280" y="2158560"/>
            <a:ext cx="64785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448920" y="6567120"/>
            <a:ext cx="53276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dr-wissen.de/wiki/ddr.pl" TargetMode="External"/><Relationship Id="rId2" Type="http://schemas.openxmlformats.org/officeDocument/2006/relationships/hyperlink" Target="http://www.ddr-suche.de/" TargetMode="External"/><Relationship Id="rId3" Type="http://schemas.openxmlformats.org/officeDocument/2006/relationships/hyperlink" Target="http://www.ddr-alltagskultur.de/" TargetMode="External"/><Relationship Id="rId4" Type="http://schemas.openxmlformats.org/officeDocument/2006/relationships/hyperlink" Target="http://www.ddr-zeitzeugen.de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GDR_shirt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43200" y="2057400"/>
            <a:ext cx="0" cy="434340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057400"/>
            <a:ext cx="4343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oethe-Institut Manch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lfgang Win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inar for teachers of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ool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en‘s University Bel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11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technischer Unterricht = mehr praktisch als akadem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inführung in die sozialistische Produktion (E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chnisches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duktive Arbeit in der 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rnteeinsatz (Helfen bei der Er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ESP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1712880" cy="2438640"/>
          </a:xfrm>
          <a:prstGeom prst="rect">
            <a:avLst/>
          </a:prstGeom>
          <a:ln w="0">
            <a:noFill/>
          </a:ln>
        </p:spPr>
      </p:pic>
      <p:pic>
        <p:nvPicPr>
          <p:cNvPr id="139" name="Ernteeinsatz" descr=""/>
          <p:cNvPicPr/>
          <p:nvPr/>
        </p:nvPicPr>
        <p:blipFill>
          <a:blip r:embed="rId2"/>
          <a:stretch/>
        </p:blipFill>
        <p:spPr>
          <a:xfrm>
            <a:off x="5079960" y="3352680"/>
            <a:ext cx="3683160" cy="2438640"/>
          </a:xfrm>
          <a:prstGeom prst="rect">
            <a:avLst/>
          </a:prstGeom>
          <a:ln w="0">
            <a:noFill/>
          </a:ln>
        </p:spPr>
      </p:pic>
      <p:pic>
        <p:nvPicPr>
          <p:cNvPr id="140" name="techn%20Zeichnen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183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– 18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weiterte Oberschule (EOS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Gymnasium in 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uch akademische Fä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. Fremdsprache, meist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 – 3 Wochen im Jahr in der 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bitur: ca. 10 – 15 % eines Jahrga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18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e Volksarmee (NV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Mä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stens 18 Monate, aber wenn man zur Universität ge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lte, musste man „freiwillig“ 3 Jahre g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18/21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 für einen Studienplatz wa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ute No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miliärer Hintergrund (Kinder von Arbeitern und Baue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tten bessere Chanc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litisch: ein guter Kommunist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NVA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209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69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h die Jugendlichen in der DDR gingen in Diskos und Clu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 ein großer Teil ihrer Freizeit war vom Staat organis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Die Kinder sollten gute Kommunist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ses Ziel gab es die folgenden Jugendorganisa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– 9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gpion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– 13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älmann-Pioni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älmann: Kommunist, von Nazis ermord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jungpioniere%201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49" name="jungpioniere2" descr=""/>
          <p:cNvPicPr/>
          <p:nvPr/>
        </p:nvPicPr>
        <p:blipFill>
          <a:blip r:embed="rId2"/>
          <a:stretch/>
        </p:blipFill>
        <p:spPr>
          <a:xfrm>
            <a:off x="2325600" y="3809880"/>
            <a:ext cx="1306440" cy="1979640"/>
          </a:xfrm>
          <a:prstGeom prst="rect">
            <a:avLst/>
          </a:prstGeom>
          <a:ln w="0">
            <a:noFill/>
          </a:ln>
        </p:spPr>
      </p:pic>
      <p:pic>
        <p:nvPicPr>
          <p:cNvPr id="150" name="tpioniere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1332000" cy="1984320"/>
          </a:xfrm>
          <a:prstGeom prst="rect">
            <a:avLst/>
          </a:prstGeom>
          <a:ln w="0">
            <a:noFill/>
          </a:ln>
        </p:spPr>
      </p:pic>
      <p:pic>
        <p:nvPicPr>
          <p:cNvPr id="151" name="tpioniere2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372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to: Seid bereit, immer bere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Gebote der Pioni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 Jungpioniere ..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unsere D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unsere El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den Fri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ten Freundschaft mit den Kindern der UdS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 all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nen fleißig, sind ordentlich und disziplin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hten alle arbeitenden Menschen und helfen überall tüchtig 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d gute Freunde und helfen eina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en, tanzen und spielen g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iben Sport und halten unseren Körper sauber und ges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gen mit Stolz unser blaues Halstu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Kopie%20von%20tpioniere3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287440" cy="3343320"/>
          </a:xfrm>
          <a:prstGeom prst="rect">
            <a:avLst/>
          </a:prstGeom>
          <a:ln w="0">
            <a:noFill/>
          </a:ln>
        </p:spPr>
      </p:pic>
      <p:pic>
        <p:nvPicPr>
          <p:cNvPr id="156" name="deutsch-sowj%20Freundschaft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20192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9280" y="1219320"/>
            <a:ext cx="8277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alles, was die Pioniere mach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ert in 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Lehrern und El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Arbeitern aus den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I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- und Sportf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ierhäuser (Kindertheater, Lese-, Fernseh-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elzi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ierferienlager (Cam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munistische Ideologie TOT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izeit,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gliedschaft „freiwillig“: 99% waren Mitg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Medaillen für „gute“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Ferienlager" descr=""/>
          <p:cNvPicPr/>
          <p:nvPr/>
        </p:nvPicPr>
        <p:blipFill>
          <a:blip r:embed="rId1"/>
          <a:stretch/>
        </p:blipFill>
        <p:spPr>
          <a:xfrm>
            <a:off x="4648320" y="98280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161" name="orden1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18543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5181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fdj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1446480" cy="1766880"/>
          </a:xfrm>
          <a:prstGeom prst="rect">
            <a:avLst/>
          </a:prstGeom>
          <a:ln w="0">
            <a:noFill/>
          </a:ln>
        </p:spPr>
      </p:pic>
      <p:pic>
        <p:nvPicPr>
          <p:cNvPr id="166" name="jugendweihe3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336760" cy="1825920"/>
          </a:xfrm>
          <a:prstGeom prst="rect">
            <a:avLst/>
          </a:prstGeom>
          <a:ln w="0">
            <a:noFill/>
          </a:ln>
        </p:spPr>
      </p:pic>
      <p:pic>
        <p:nvPicPr>
          <p:cNvPr id="167" name="FDJ%20Blauhemd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2357280" cy="1768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77120" y="5638680"/>
            <a:ext cx="807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990720"/>
            <a:ext cx="830592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endwei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rsatz für religiöse Feiern wie Konfirmation/Kommun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bn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ür Kommunismus, Arbeiterklasse,  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ür die Freundschaft mit der Ud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er war freiwilli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 fast 100% haben es gem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6576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– max.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ie Deutsche Jugend (FD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gliedschaft war „freiwillig“, aber ohne Mitgliedschaft oft kein Platz 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ganisierte Jugendhotels und Jugendclubs, besonders für Gewinner von Preisen = große Motivation, besonders politisch „gut“ zu sein, dann sogar Campingurlaub in 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geclubs (meistens politische Lieder) waren unpopulär - Indoktr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mmunistische Ideologie TOTAL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le, Freizeit,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Freizeit war also sehr politisch orient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ugendlichen hatten aber nie Langewe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hatten einen Job = keine Jugendarbeitslosigk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fdj_pin_gold" descr=""/>
          <p:cNvPicPr/>
          <p:nvPr/>
        </p:nvPicPr>
        <p:blipFill>
          <a:blip r:embed="rId1"/>
          <a:stretch/>
        </p:blipFill>
        <p:spPr>
          <a:xfrm>
            <a:off x="6116760" y="3429000"/>
            <a:ext cx="24685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315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 erwach, erhebe Dich jetz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grausame Zeit hat ei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Sonne schickt wi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trahlen hernieder vom blauen Himmelsgeze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Lerche schickt frohe Lieder ins T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Bächlein ermuntert uns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er Bauer bestellt wieder Acker und Fe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ld blüht es allüber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05920" y="1219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3520" y="1219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DJ-Lied: Bau auf, bau au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Bau auf, bau auf, bau auf, bau au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reie Deutsche Jugend, bau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ür eine bessere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Richten wir die Heimat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überall der Hammer ertö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rkende Hand zu uns spr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utsche Jugend pack 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ch Dir selber die B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Frieden, Freiheit und Re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 Zwang und kein Drill, der eigene Will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ülle dein Leben for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icke frei in das Lic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dir niemals gebr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utsche Jugend steh deinen Man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Bau auf, bau auf, bau auf, bau au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reie Deutsche Jugend, bau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ür eine bessere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Richten wir die Heimat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64160" y="1798200"/>
            <a:ext cx="406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e DDR lebt wei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uf 79 Quadratmetern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hrli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066680"/>
          <a:ext cx="32432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32432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ise- und Urlaubsmöglichkei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aubsreisen in der DDR waren sehr bill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Ferienheime für Familien im ganzen 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blingsreiseziele: Ostsee und Thüringer W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siert vom Freien Deutschen Gewerkschaftsbund (FD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landsreisen: UdSSR, Tschechoslowakei, Polen, 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tische Reiseziele: Vietnam, K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aub in westlichen Ländern nicht möglich – Grund für Unzufried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hüringer%20Wald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2465280" cy="2465280"/>
          </a:xfrm>
          <a:prstGeom prst="rect">
            <a:avLst/>
          </a:prstGeom>
          <a:ln w="0">
            <a:noFill/>
          </a:ln>
        </p:spPr>
      </p:pic>
      <p:pic>
        <p:nvPicPr>
          <p:cNvPr id="190" name="Ostsee2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31240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Geheimdienst in der DDR war das Ministerium für Staatssicherheit (MfS) – STASI. Hier waren die Spione für Inland und Aus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91 000 offizielle Mitarbeiter und ca. 100 000 inoffizielle Mitarbeiter (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Alte und Kinder: ca. 50 Personen pro Stasi-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1 500 Stasi-Leute im Ausland = „Kundschafter des Frieden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Alle sollten sich beobachtet und kontrolliert 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Kritik gegen den Staat und Opposition sto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stasi2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95" name="Stasi3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786040" cy="2058840"/>
          </a:xfrm>
          <a:prstGeom prst="rect">
            <a:avLst/>
          </a:prstGeom>
          <a:ln w="0">
            <a:noFill/>
          </a:ln>
        </p:spPr>
      </p:pic>
      <p:pic>
        <p:nvPicPr>
          <p:cNvPr id="196" name="stasi4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156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offiziellen Mitarbeiter waren oft Polizisten, Beamte, Armeeoffizi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inoffiziellen Mitarbeiter (IM) waren oft Arbeitskollegen, Freunde, Verwandte, sogar Ehepart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 Vera Wollenberger war in der Opposition und hat herausgefunden, dass ihr Ehemann sie 10 Jahre lang ausspionier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vera%20wollenberger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1181160" cy="1524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4572000"/>
            <a:ext cx="815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er Film über die Stasi: Das Leben der and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leben%20der%20anderen" descr=""/>
          <p:cNvPicPr/>
          <p:nvPr/>
        </p:nvPicPr>
        <p:blipFill>
          <a:blip r:embed="rId2"/>
          <a:stretch/>
        </p:blipFill>
        <p:spPr>
          <a:xfrm>
            <a:off x="6172200" y="4573440"/>
            <a:ext cx="16765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9280" y="1143000"/>
            <a:ext cx="40622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ter Service für Kinder: Kinderkrippen, Kindergärten, Schulh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ütter konnten ohne Probleme arb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 Freizeitorganisation für Jugendliche: keine Langeweile, kein Herumhä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Ferienhe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Lebensmi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Wohn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Arbeitslo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64160" y="1142640"/>
            <a:ext cx="406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ben politisch-ideologisch organis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Freiheit für andere politische Id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e für Relig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e, wenn nicht aktiv bei Pionieren, FDJ: vielleicht kein Platz auf EOS oder 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ure Luxusgüter (Autos, Fernseher, Videorekorder), kaum Tele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e unmodern, unprodu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Reisefrei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title"/>
          </p:nvPr>
        </p:nvSpPr>
        <p:spPr>
          <a:xfrm>
            <a:off x="485280" y="457200"/>
            <a:ext cx="82774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latte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1257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Mauer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e seit dem Fall der Mauer 198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he Arbeitslosigkeit, auch bei Jugendlichen (ca. 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ine Feizeitorganisation wie frü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ele junge und gut qualifizierte Menschen gehen nach West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anchen Regionen leben fast nur noch alte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völkerungszahl: heute ca. 2 Millionen weniger als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SULTAT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Lucida Handwriting"/>
              </a:rPr>
              <a:t>OSTALGIE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– „früher war alles bess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Bundesländer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324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610480" y="3581280"/>
            <a:ext cx="228600" cy="2286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696080" y="3657600"/>
            <a:ext cx="10670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467120" y="3733920"/>
            <a:ext cx="11430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4572000"/>
            <a:ext cx="228600" cy="2286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638680" y="4724280"/>
            <a:ext cx="137160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029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uppe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STALGIE aus gesundheitlichen Gründ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„gute“ Kommunistin Frau Kerner ha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 einen Herzinfarkt und fällt ins K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wach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 auf. Die DDR hat keine Mauer und keinen Eisernen Vorhang me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Doktor warnt ihren Sohn, jeder Schock kann tödlich für sie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ohn macht die Wohnung wieder so zurecht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zeigt ihr selbst gemachte Nachrichten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Mutter bekommt Essen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lange hält die Illu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filmillusion3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2361960" cy="1712880"/>
          </a:xfrm>
          <a:prstGeom prst="rect">
            <a:avLst/>
          </a:prstGeom>
          <a:ln w="0">
            <a:noFill/>
          </a:ln>
        </p:spPr>
      </p:pic>
      <p:pic>
        <p:nvPicPr>
          <p:cNvPr id="226" name="filmillusion2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374920" cy="1714680"/>
          </a:xfrm>
          <a:prstGeom prst="rect">
            <a:avLst/>
          </a:prstGeom>
          <a:ln w="0">
            <a:noFill/>
          </a:ln>
        </p:spPr>
      </p:pic>
      <p:pic>
        <p:nvPicPr>
          <p:cNvPr id="227" name="filmillusion" descr=""/>
          <p:cNvPicPr/>
          <p:nvPr/>
        </p:nvPicPr>
        <p:blipFill>
          <a:blip r:embed="rId3"/>
          <a:stretch/>
        </p:blipFill>
        <p:spPr>
          <a:xfrm>
            <a:off x="3271680" y="4572000"/>
            <a:ext cx="2595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terführende Materiali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1"/>
              </a:rPr>
              <a:t>http://www.ddr-wissen.de/wiki/ddr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2"/>
              </a:rPr>
              <a:t>http://www.ddr-such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3"/>
              </a:rPr>
              <a:t>http://www.ddr-alltagskultur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4"/>
              </a:rPr>
              <a:t>http://www.ddr-zeitzeug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ddr-im-www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rishfilm.ie/downloads/ifi_gblenin_s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280" y="1066320"/>
            <a:ext cx="869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wurde 2003 gem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spielt aber im Jahre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historischer 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war ein wichtiges Jahr in der deutschen Politi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politischer 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erzählt das Familienleben zu dieser 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m Beispiel der Familie Kerner in Ostber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Familien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ist ein lustiger, historischer, politischer Familien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tschland im Jahre 19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6224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Land war geteilt – in Westdeutschland und Ostdeutsch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6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ie Hauptstadt Berlin war geteilt – in Westberlin und Ostber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eutschland_geteilt2" descr=""/>
          <p:cNvPicPr/>
          <p:nvPr/>
        </p:nvPicPr>
        <p:blipFill>
          <a:blip r:embed="rId1"/>
          <a:stretch/>
        </p:blipFill>
        <p:spPr>
          <a:xfrm>
            <a:off x="838080" y="21700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Ostberlin%20westberlin" descr=""/>
          <p:cNvPicPr/>
          <p:nvPr/>
        </p:nvPicPr>
        <p:blipFill>
          <a:blip r:embed="rId2"/>
          <a:stretch/>
        </p:blipFill>
        <p:spPr>
          <a:xfrm>
            <a:off x="4952880" y="2252520"/>
            <a:ext cx="358164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tschland im Jahre 19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9280" y="2439720"/>
            <a:ext cx="40622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deutschland = Bundesrepublik Deutschland (B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deutschland hatte ein demokratisches kapitalistische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2438280"/>
            <a:ext cx="406224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deutschland = Deutsche Demokratische Republik (D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deutschland hatte ein undemokratisches kommunistische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gab es politische Probleme in den kommunistischen Ländern in Europa – auch in Ostdeutsch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viele Demonstrationen und die ersten freien Wahlen seit 1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vember 1989: Der Fall der Mauer in Berlin und des Eisernen Vorhangs in Deutsch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Flagge%20Westdeutschland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752840" cy="1168560"/>
          </a:xfrm>
          <a:prstGeom prst="rect">
            <a:avLst/>
          </a:prstGeom>
          <a:ln w="0">
            <a:noFill/>
          </a:ln>
        </p:spPr>
      </p:pic>
      <p:pic>
        <p:nvPicPr>
          <p:cNvPr id="106" name="Flagge%20Ostdeutschalnd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0574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277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zeigt das Leben in Ostberlin vor und nach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berlinermauer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Brandenburger%20Tor%20mit%20Mauer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308628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Brandenburger%20Tor%20mit%20Leuten%20auf%20Mauer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mauerfall" descr=""/>
          <p:cNvPicPr/>
          <p:nvPr/>
        </p:nvPicPr>
        <p:blipFill>
          <a:blip r:embed="rId4"/>
          <a:stretch/>
        </p:blipFill>
        <p:spPr>
          <a:xfrm>
            <a:off x="4419720" y="2438280"/>
            <a:ext cx="28954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9280" y="1219320"/>
            <a:ext cx="8277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e Leute in Ostdeutschland hatten Probleme mit der neuen Situation in ihrem 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hatt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stalgi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eutschlan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TAL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80px-GDR_shirts" descr="Verkauf von DDR-T-shirts in Berlin 20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895480"/>
            <a:ext cx="2057400" cy="1622520"/>
          </a:xfrm>
          <a:prstGeom prst="rect">
            <a:avLst/>
          </a:prstGeom>
          <a:ln w="0">
            <a:noFill/>
          </a:ln>
        </p:spPr>
      </p:pic>
      <p:pic>
        <p:nvPicPr>
          <p:cNvPr id="118" name="Ampelmaennchen" descr=""/>
          <p:cNvPicPr/>
          <p:nvPr/>
        </p:nvPicPr>
        <p:blipFill>
          <a:blip r:embed="rId3"/>
          <a:stretch/>
        </p:blipFill>
        <p:spPr>
          <a:xfrm>
            <a:off x="3102120" y="2895480"/>
            <a:ext cx="1150920" cy="1621080"/>
          </a:xfrm>
          <a:prstGeom prst="rect">
            <a:avLst/>
          </a:prstGeom>
          <a:ln w="0">
            <a:noFill/>
          </a:ln>
        </p:spPr>
      </p:pic>
      <p:pic>
        <p:nvPicPr>
          <p:cNvPr id="119" name="Ampelmaennchen%20grün" descr=""/>
          <p:cNvPicPr/>
          <p:nvPr/>
        </p:nvPicPr>
        <p:blipFill>
          <a:blip r:embed="rId4"/>
          <a:stretch/>
        </p:blipFill>
        <p:spPr>
          <a:xfrm>
            <a:off x="4648320" y="2895480"/>
            <a:ext cx="1249200" cy="1622520"/>
          </a:xfrm>
          <a:prstGeom prst="rect">
            <a:avLst/>
          </a:prstGeom>
          <a:ln w="0">
            <a:noFill/>
          </a:ln>
        </p:spPr>
      </p:pic>
      <p:pic>
        <p:nvPicPr>
          <p:cNvPr id="120" name="image" descr=""/>
          <p:cNvPicPr/>
          <p:nvPr/>
        </p:nvPicPr>
        <p:blipFill>
          <a:blip r:embed="rId5"/>
          <a:stretch/>
        </p:blipFill>
        <p:spPr>
          <a:xfrm>
            <a:off x="6477120" y="289548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Trabbi" descr=""/>
          <p:cNvPicPr/>
          <p:nvPr/>
        </p:nvPicPr>
        <p:blipFill>
          <a:blip r:embed="rId6"/>
          <a:stretch/>
        </p:blipFill>
        <p:spPr>
          <a:xfrm>
            <a:off x="762120" y="4724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2" name="trabbireihebeigrenze" descr=""/>
          <p:cNvPicPr/>
          <p:nvPr/>
        </p:nvPicPr>
        <p:blipFill>
          <a:blip r:embed="rId7"/>
          <a:stretch/>
        </p:blipFill>
        <p:spPr>
          <a:xfrm>
            <a:off x="3102120" y="4724280"/>
            <a:ext cx="1274760" cy="1546200"/>
          </a:xfrm>
          <a:prstGeom prst="rect">
            <a:avLst/>
          </a:prstGeom>
          <a:ln w="0">
            <a:noFill/>
          </a:ln>
        </p:spPr>
      </p:pic>
      <p:pic>
        <p:nvPicPr>
          <p:cNvPr id="123" name="trabbi%20storch" descr=""/>
          <p:cNvPicPr/>
          <p:nvPr/>
        </p:nvPicPr>
        <p:blipFill>
          <a:blip r:embed="rId8"/>
          <a:stretch/>
        </p:blipFill>
        <p:spPr>
          <a:xfrm>
            <a:off x="4648320" y="4724280"/>
            <a:ext cx="1662120" cy="154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00800" y="4724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ewaldgu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ie war das Leben in der DD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se- und Urlaubsmög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andmännchen2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5541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Jugendkultur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2292120" cy="1979640"/>
          </a:xfrm>
          <a:prstGeom prst="rect">
            <a:avLst/>
          </a:prstGeom>
          <a:ln w="0">
            <a:noFill/>
          </a:ln>
        </p:spPr>
      </p:pic>
      <p:pic>
        <p:nvPicPr>
          <p:cNvPr id="130" name="urlaub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2584440" cy="1984320"/>
          </a:xfrm>
          <a:prstGeom prst="rect">
            <a:avLst/>
          </a:prstGeom>
          <a:ln w="0">
            <a:noFill/>
          </a:ln>
        </p:spPr>
      </p:pic>
      <p:pic>
        <p:nvPicPr>
          <p:cNvPr id="131" name="stasi1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1268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3 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krip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. 1,50 M für Essen   ca. 80% der K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– 6 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gart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. 0,35 M für Essen   fast 100% der K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öffnet von 6.00 – 18.00 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hr als 90% der Frauen waren berufstä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tische Er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–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technische Oberschule (P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5. Klasse: Russisch als Pflicht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chichte: Kampf der Arbeiterk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7. Klasse: Einführung in die sozialistische Produ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atsbürgerkunde (Marxismus-Leninism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9. Klasse: Wehrunterricht – militärischer Unterr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chule von 7.00 – 13.00 oder 8.00 – 14.00 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achmittags Klasse 1 – 4 im Hort ( = „Schulkindergarten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12:37Z</dcterms:created>
  <dc:creator>HD</dc:creator>
  <dc:description/>
  <dc:language>en-US</dc:language>
  <cp:lastModifiedBy>win98_standard</cp:lastModifiedBy>
  <dcterms:modified xsi:type="dcterms:W3CDTF">2006-10-31T17:46:52Z</dcterms:modified>
  <cp:revision>100</cp:revision>
  <dc:subject/>
  <dc:title>Folie 1</dc:title>
</cp:coreProperties>
</file>